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BF6-E213-4A5E-8C9D-0CB018EA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BCE-B92D-483E-A231-ACD0E74E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AB1-7BD1-4891-BCAF-B64D724C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300-4628-4D02-B318-0064D66F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E6E-84AD-475F-B7DA-17EB823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828-A6B6-4F47-9C12-61472FF5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48B-171C-4A36-B125-5A59F017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FCD-F3F6-4A0C-8487-1639BCDC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6C4-E4C2-4ACA-B2FA-05A93C0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61B-F3EA-433E-83F0-C988479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03A-67CE-45EF-B966-5F0F3D2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A86-2455-4AC7-B349-546E451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037-AD14-46D6-8AC7-889565765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53436"/>
                </a:solidFill>
                <a:latin typeface="Calibri"/>
              </a:rPr>
              <a:t>Uno Atta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436"/>
                </a:solidFill>
                <a:latin typeface="Calibri"/>
              </a:rPr>
              <a:t>By: Christine Shuri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436"/>
                </a:solidFill>
                <a:latin typeface="Calibri"/>
              </a:rPr>
              <a:t>Noelle Sinna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pTRU1-2787641dt.jpg"/>
          <p:cNvPicPr/>
          <p:nvPr/>
        </p:nvPicPr>
        <p:blipFill>
          <a:blip r:embed="rId1"/>
          <a:stretch/>
        </p:blipFill>
        <p:spPr>
          <a:xfrm>
            <a:off x="2895480" y="1625760"/>
            <a:ext cx="3327480" cy="33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st Two: Chi Squared Assoc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762120" y="17524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: The observed frequency distribution of the amount of cards that are ejected fits the expected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762120" y="3886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: The observed frequency distribution of the amount of cards that are ejected does not fit the expected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8"/>
          <p:cNvSpPr/>
          <p:nvPr/>
        </p:nvSpPr>
        <p:spPr>
          <a:xfrm>
            <a:off x="304920" y="2362320"/>
            <a:ext cx="3733560" cy="251460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2666880"/>
            <a:ext cx="40399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Random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expected cou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e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7960" y="2666880"/>
            <a:ext cx="4041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clicked the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=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1371600" y="426708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5486400" y="4343400"/>
                <a:ext cx="6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Box 7"/>
          <p:cNvSpPr/>
          <p:nvPr/>
        </p:nvSpPr>
        <p:spPr>
          <a:xfrm>
            <a:off x="6094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st Two: Chi- Square Assoc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4495680" y="2362320"/>
            <a:ext cx="3733920" cy="2514600"/>
          </a:xfrm>
          <a:prstGeom prst="roundRect">
            <a:avLst>
              <a:gd name="adj" fmla="val 16667"/>
            </a:avLst>
          </a:prstGeom>
          <a:solidFill>
            <a:srgbClr val="ff0000">
              <a:alpha val="19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 Square Continu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06600" y="1752480"/>
                <a:ext cx="73944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2409840" y="3024360"/>
                <a:ext cx="409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36480" y="4708440"/>
                <a:ext cx="50785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4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 Square Continu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reject Ho in favor of Ha because the p-value of                                   . Thus, the observed frequency distribution of the amount of cards that are ejected does not fit the expected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2286000" y="2133720"/>
                <a:ext cx="314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4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sible Sources of 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s slide back into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bbing the retracted cards that are still partially in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cards are in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fast the button is h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unoattackex2.jpg"/>
          <p:cNvPicPr/>
          <p:nvPr/>
        </p:nvPicPr>
        <p:blipFill>
          <a:blip r:embed="rId1"/>
          <a:stretch/>
        </p:blipFill>
        <p:spPr>
          <a:xfrm>
            <a:off x="1528920" y="4495680"/>
            <a:ext cx="6167160" cy="19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4" descr="unoattack2.jpg"/>
          <p:cNvPicPr/>
          <p:nvPr/>
        </p:nvPicPr>
        <p:blipFill>
          <a:blip r:embed="rId1"/>
          <a:stretch/>
        </p:blipFill>
        <p:spPr>
          <a:xfrm>
            <a:off x="228600" y="304920"/>
            <a:ext cx="165420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zero.gif"/>
          <p:cNvPicPr/>
          <p:nvPr/>
        </p:nvPicPr>
        <p:blipFill>
          <a:blip r:embed="rId2"/>
          <a:stretch/>
        </p:blipFill>
        <p:spPr>
          <a:xfrm>
            <a:off x="6715080" y="304920"/>
            <a:ext cx="11336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one.gif"/>
          <p:cNvPicPr/>
          <p:nvPr/>
        </p:nvPicPr>
        <p:blipFill>
          <a:blip r:embed="rId3"/>
          <a:stretch/>
        </p:blipFill>
        <p:spPr>
          <a:xfrm>
            <a:off x="7400880" y="1523880"/>
            <a:ext cx="120960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three.gif"/>
          <p:cNvPicPr/>
          <p:nvPr/>
        </p:nvPicPr>
        <p:blipFill>
          <a:blip r:embed="rId4"/>
          <a:stretch/>
        </p:blipFill>
        <p:spPr>
          <a:xfrm>
            <a:off x="6734160" y="2895480"/>
            <a:ext cx="1266840" cy="173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even.gif"/>
          <p:cNvPicPr/>
          <p:nvPr/>
        </p:nvPicPr>
        <p:blipFill>
          <a:blip r:embed="rId5"/>
          <a:stretch/>
        </p:blipFill>
        <p:spPr>
          <a:xfrm>
            <a:off x="7458120" y="4114800"/>
            <a:ext cx="122868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380880" y="236232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ne-proportion Z test inferred that cards would eject from the device 50% of the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real game you can expect the cards to continuously come out half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-Square test showed that the numbers of cards that are emitted does not have any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real game you will be ensured the spontaneity and random numbers of cards to come out that makes this game so fu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d by Merle Robbins in 197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d after an argument with his sons over crazy 8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d out of his barbershop at fir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d to a funeral parlor owner for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tional Games inc. was formed to market U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me apart of the Mattel family in 199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o attack brings Uno to a faster unpredictabl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ew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o Attack brings Uno to a faster and unpredictabl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a motorized card dealer that spits more cards 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drawing cards from a deck, players receive a random amount of cards from an electronic card dea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unoattack6.jpg"/>
          <p:cNvPicPr/>
          <p:nvPr/>
        </p:nvPicPr>
        <p:blipFill>
          <a:blip r:embed="rId1"/>
          <a:stretch/>
        </p:blipFill>
        <p:spPr>
          <a:xfrm>
            <a:off x="5181480" y="1600200"/>
            <a:ext cx="372132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6" descr=""/>
          <p:cNvPicPr/>
          <p:nvPr/>
        </p:nvPicPr>
        <p:blipFill>
          <a:blip r:embed="rId1"/>
          <a:stretch/>
        </p:blipFill>
        <p:spPr>
          <a:xfrm>
            <a:off x="603360" y="450720"/>
            <a:ext cx="7937280" cy="557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3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63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648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32004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8280"/>
            <a:ext cx="3657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Random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(p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(1-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752480" y="3429000"/>
                <a:ext cx="109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905120" y="4038480"/>
                <a:ext cx="12189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Content Placeholder 2"/>
          <p:cNvSpPr/>
          <p:nvPr/>
        </p:nvSpPr>
        <p:spPr>
          <a:xfrm>
            <a:off x="4648320" y="2362320"/>
            <a:ext cx="3657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clicked the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(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(1-.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172200" y="3352680"/>
                <a:ext cx="109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590920" y="2895480"/>
                <a:ext cx="412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6400800" y="3886200"/>
                <a:ext cx="178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itle 1"/>
          <p:cNvSpPr/>
          <p:nvPr/>
        </p:nvSpPr>
        <p:spPr>
          <a:xfrm>
            <a:off x="4724280" y="1143000"/>
            <a:ext cx="3200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0666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 One: One Prop-Z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457200" y="2209680"/>
            <a:ext cx="3505320" cy="365760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3657600"/>
              <a:gd name="textAreaBottom" fmla="*/ 3486600 h 3657600"/>
            </a:gdLst>
            <a:ahLst/>
            <a:rect l="textAreaLeft" t="textAreaTop" r="textAreaRight" b="textAreaBottom"/>
            <a:pathLst>
              <a:path w="21600" h="22538">
                <a:moveTo>
                  <a:pt x="3600" y="0"/>
                </a:moveTo>
                <a:arcTo wR="3600" hR="3600" stAng="16200000" swAng="-5400000"/>
                <a:lnTo>
                  <a:pt x="0" y="18938"/>
                </a:lnTo>
                <a:arcTo wR="3600" hR="3600" stAng="10800000" swAng="-5400000"/>
                <a:lnTo>
                  <a:pt x="18000" y="22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25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12"/>
          <p:cNvSpPr/>
          <p:nvPr/>
        </p:nvSpPr>
        <p:spPr>
          <a:xfrm>
            <a:off x="4572000" y="2209680"/>
            <a:ext cx="3657600" cy="3657600"/>
          </a:xfrm>
          <a:prstGeom prst="roundRect">
            <a:avLst>
              <a:gd name="adj" fmla="val 16667"/>
            </a:avLst>
          </a:prstGeom>
          <a:solidFill>
            <a:srgbClr val="ff0000">
              <a:alpha val="22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 One: the one-proportion z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: p= 0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: p   0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600200" y="1981080"/>
                <a:ext cx="692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685800" y="2590920"/>
                <a:ext cx="1819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95480" y="2590920"/>
                <a:ext cx="16970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Box 7"/>
          <p:cNvSpPr/>
          <p:nvPr/>
        </p:nvSpPr>
        <p:spPr>
          <a:xfrm>
            <a:off x="4724280" y="2819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.067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457200" y="4724280"/>
                <a:ext cx="2158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88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Box 9"/>
          <p:cNvSpPr/>
          <p:nvPr/>
        </p:nvSpPr>
        <p:spPr>
          <a:xfrm>
            <a:off x="3048120" y="3962520"/>
            <a:ext cx="5867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fail to reject Ho in favor of Ha because the p-value of 0.067889 is &gt;                  . We have sufficient evidence that the proportions of the likelihood of cards being ejected from the device is equal to 0.5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6921360" y="4419720"/>
                <a:ext cx="1155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5% confidence inter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(0.49798, 0.8353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re 95% confident that proportion of the amount of cards ejected is between 0.49798 and 0.83535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4572000" y="2286000"/>
                <a:ext cx="3622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14400" y="2286000"/>
                <a:ext cx="28335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z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1:39:16Z</dcterms:created>
  <dc:creator> </dc:creator>
  <dc:description/>
  <dc:language>en-US</dc:language>
  <cp:lastModifiedBy>noelle</cp:lastModifiedBy>
  <dcterms:modified xsi:type="dcterms:W3CDTF">2008-06-09T02:23:03Z</dcterms:modified>
  <cp:revision>29</cp:revision>
  <dc:subject/>
  <dc:title>Slide 1</dc:title>
</cp:coreProperties>
</file>